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C21B-B451-4F1B-81A2-A2C4F1740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84E9-5C86-42D1-82F2-BF9E4C2C4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D68D-7132-4EE1-BB21-008D3D82A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36B8-1CE5-4DD5-9AEB-40C129335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66B83-9CDF-484A-A6C7-D8186A016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1BD8B-F7F1-42F7-936B-C7F239F51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5E8AA-0D4D-4BBE-937E-88903C67F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31092-6E56-4892-8995-89D2D964F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2B30F-AB3C-4A11-BD89-FB16C831E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B7DDB-F64A-4674-AB3D-6C8C98C51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91515-3CE6-48C4-AFD0-4B693A04E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F5CF-81C8-408B-B93A-AD22744E9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9B0F2-8DF7-4A24-AE02-FDF9AB89B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51ED3-3A3F-4081-8CF3-0B9F34A18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6AD9C-E8E9-47E4-BCB8-CA5E92752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8E7E4-C946-429D-9A7C-88CCCA1A1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7A98B-EFB3-4778-83BA-D2A0A0AFE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65CC-10FF-41F4-9CC5-DF69766B1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9AFD-5B01-48A8-9EE8-AA1806427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CC2C-AA44-43AA-97EB-0C9971DF7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6B38-316A-4ABB-A829-FBA178526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CCF2-4670-4C33-BA04-4B201EE45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9BD4-097E-4DDC-9BCD-4457F364E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79FC-169B-4BAA-BFF6-916826088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A9478-D1DE-42AD-AECE-313DFC12B9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11D44-E875-468D-8D1C-0195DEAD90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5ffff"/>
                </a:solidFill>
                <a:latin typeface="Tahoma"/>
              </a:rPr>
              <a:t>Chairs meeting WCPFC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58920" y="1916280"/>
            <a:ext cx="640080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Welco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Leaving Gu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Two key issues for 200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Why an informal mee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Structure of the mee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What are the outcomes of the meeting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5ffff"/>
                </a:solidFill>
                <a:latin typeface="Tahoma"/>
              </a:rPr>
              <a:t>Leaving Gua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Unable to deliver on Big eye and yellowfin resol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Expectation from civil society that we wi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A lot of pressure to join the Commission and exploit the resources of the WCPFC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Lack of understanding of what it was we were trying to manage in its full sense. PS and 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Need to try something difference to get a result in Bus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5ffff"/>
                </a:solidFill>
                <a:latin typeface="Tahoma"/>
              </a:rPr>
              <a:t>The two key deliverabl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A Conservation measure for big-eye and yellowfin tuna that deals effectively with reducing the catch on these speci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Compatible measures on the high seas…..what does it mea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Complicated by Article 10 and discussion on rights of small island stat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Complicated by the desire to continue to harvest skipjack at current level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Complicated by a number of issues people are uncomfortable talking about i.e. how we interpret CM’s, what's a compatible measure, what do we want from the fishery et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5ffff"/>
                </a:solidFill>
                <a:latin typeface="Tahoma"/>
              </a:rPr>
              <a:t>Structure of the meet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New agen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Presentations and workshop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Industry presentations wh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Informal meeting no Commission stan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Not looking for agreement or resolution or a draft meas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Chair may draft afterwards to begin a formal proc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Goodwi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5ffff"/>
                </a:solidFill>
                <a:latin typeface="Tahoma"/>
              </a:rPr>
              <a:t>Outcom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Getting to Bus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Need a workable resolution early in the proc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Need to understand how to manage this fishe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Need to understand what compatible measures actually me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This meeting should develop a greater understanding of the complexity of our challeng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I am happy just to have the discussion with you it can only help our understanding and contribute to a resol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Thanks for coming - your participation is  genuinely apprecia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10:44:00Z</dcterms:created>
  <dc:creator>Computer</dc:creator>
  <dc:description/>
  <dc:language>en-US</dc:language>
  <cp:lastModifiedBy>Computer</cp:lastModifiedBy>
  <dcterms:modified xsi:type="dcterms:W3CDTF">2008-03-31T11:12:53Z</dcterms:modified>
  <cp:revision>5</cp:revision>
  <dc:subject/>
  <dc:title>Chairs meeting WCPFC</dc:title>
</cp:coreProperties>
</file>